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F54-B466-4B5A-A5D9-AA1732C884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F22-2421-42E7-8FB3-9D1DBD1E0A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7D62-E201-4015-8127-37D72F0D58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070-F315-4098-AF11-730D65379D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064-7334-488E-8A1B-B470F8DE17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D50-F70D-48E4-8816-0410255E2E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6941-2170-4AB2-8716-188BB4B944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46D-DD26-40E2-9B1F-7CAAD934C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9A9-AF3D-4543-8D96-0EF5D04808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0DF8-32C6-457E-B591-62508B181B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2E3-D51A-451F-B260-20B8C67D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321-F305-40B9-970B-FC7289E9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0CA-F5C8-4BA3-8FAF-42F470F8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7C9-9DE8-4674-8F62-7DF50468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74F-47D5-45BA-A220-FB8AAD66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869C-CDE5-40A4-A478-029AA983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B1F-B597-4CAB-9BF3-97D64D7A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174-1A36-4557-A59B-B4AADF3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84A-4150-47C6-8240-A12553EE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F54D-BF7E-496D-9C9B-A5E3C225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A98-E7DE-401B-961D-1AE6139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587-A558-4D7A-AE3E-414B4BD6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9B3-F4C0-49B5-AE22-DA2F701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BBBF-C225-4473-9DF5-45EAC6F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6AED-DAA1-4879-9CD8-AFB6007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0A9-7C51-41A6-ABDF-26B43730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6886-729A-4FAD-BEA9-6517417D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010-1D81-404D-95C8-C4708583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EAC-7D00-437F-9904-68795BC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FC9-5397-4839-B234-AFB499E0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711-3C48-46F7-AC61-C108FBBD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7BD-7ED4-4027-88CF-978D2564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8FC-215C-43B6-A4BE-66DB8D6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A7D-A5BC-4C2C-8C99-550A242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43E-4169-4598-BAE4-119DC85427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AC8-06FA-474E-8F17-20DEC3020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143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И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1643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6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7072200" cy="1785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6"/>
          <p:cNvSpPr/>
          <p:nvPr/>
        </p:nvSpPr>
        <p:spPr>
          <a:xfrm flipH="1">
            <a:off x="264276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 flipH="1">
            <a:off x="357192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 flipH="1">
            <a:off x="3499920" y="2857680"/>
            <a:ext cx="180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0"/>
          <p:cNvSpPr/>
          <p:nvPr/>
        </p:nvSpPr>
        <p:spPr>
          <a:xfrm flipH="1">
            <a:off x="271260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6"/>
          <p:cNvSpPr/>
          <p:nvPr/>
        </p:nvSpPr>
        <p:spPr>
          <a:xfrm>
            <a:off x="3714120" y="3143160"/>
            <a:ext cx="857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8"/>
          <p:cNvSpPr/>
          <p:nvPr/>
        </p:nvSpPr>
        <p:spPr>
          <a:xfrm>
            <a:off x="3714840" y="335772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0"/>
          <p:cNvSpPr/>
          <p:nvPr/>
        </p:nvSpPr>
        <p:spPr>
          <a:xfrm>
            <a:off x="3714120" y="357192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82"/>
          <p:cNvSpPr/>
          <p:nvPr/>
        </p:nvSpPr>
        <p:spPr>
          <a:xfrm>
            <a:off x="3714840" y="371484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4"/>
          <p:cNvSpPr/>
          <p:nvPr/>
        </p:nvSpPr>
        <p:spPr>
          <a:xfrm>
            <a:off x="4429080" y="3000240"/>
            <a:ext cx="28584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6"/>
          <p:cNvSpPr/>
          <p:nvPr/>
        </p:nvSpPr>
        <p:spPr>
          <a:xfrm>
            <a:off x="42141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94"/>
          <p:cNvSpPr/>
          <p:nvPr/>
        </p:nvSpPr>
        <p:spPr>
          <a:xfrm>
            <a:off x="485784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96"/>
          <p:cNvSpPr/>
          <p:nvPr/>
        </p:nvSpPr>
        <p:spPr>
          <a:xfrm>
            <a:off x="485784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8"/>
          <p:cNvSpPr/>
          <p:nvPr/>
        </p:nvSpPr>
        <p:spPr>
          <a:xfrm>
            <a:off x="4857840" y="3214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0"/>
          <p:cNvSpPr/>
          <p:nvPr/>
        </p:nvSpPr>
        <p:spPr>
          <a:xfrm>
            <a:off x="4857840" y="335772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02"/>
          <p:cNvSpPr/>
          <p:nvPr/>
        </p:nvSpPr>
        <p:spPr>
          <a:xfrm>
            <a:off x="485784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485784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485784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8"/>
          <p:cNvSpPr/>
          <p:nvPr/>
        </p:nvSpPr>
        <p:spPr>
          <a:xfrm>
            <a:off x="485784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4"/>
          <p:cNvSpPr/>
          <p:nvPr/>
        </p:nvSpPr>
        <p:spPr>
          <a:xfrm flipH="1">
            <a:off x="500076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6"/>
          <p:cNvSpPr/>
          <p:nvPr/>
        </p:nvSpPr>
        <p:spPr>
          <a:xfrm flipH="1">
            <a:off x="514368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8"/>
          <p:cNvSpPr/>
          <p:nvPr/>
        </p:nvSpPr>
        <p:spPr>
          <a:xfrm>
            <a:off x="5322240" y="278604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7"/>
          <p:cNvSpPr/>
          <p:nvPr/>
        </p:nvSpPr>
        <p:spPr>
          <a:xfrm flipV="1">
            <a:off x="550080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5"/>
          <p:cNvSpPr/>
          <p:nvPr/>
        </p:nvSpPr>
        <p:spPr>
          <a:xfrm>
            <a:off x="642924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7"/>
          <p:cNvSpPr/>
          <p:nvPr/>
        </p:nvSpPr>
        <p:spPr>
          <a:xfrm>
            <a:off x="642924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9"/>
          <p:cNvSpPr/>
          <p:nvPr/>
        </p:nvSpPr>
        <p:spPr>
          <a:xfrm>
            <a:off x="642924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51"/>
          <p:cNvSpPr/>
          <p:nvPr/>
        </p:nvSpPr>
        <p:spPr>
          <a:xfrm>
            <a:off x="642924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53"/>
          <p:cNvSpPr/>
          <p:nvPr/>
        </p:nvSpPr>
        <p:spPr>
          <a:xfrm>
            <a:off x="642924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5"/>
          <p:cNvSpPr/>
          <p:nvPr/>
        </p:nvSpPr>
        <p:spPr>
          <a:xfrm>
            <a:off x="642924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7"/>
          <p:cNvSpPr/>
          <p:nvPr/>
        </p:nvSpPr>
        <p:spPr>
          <a:xfrm>
            <a:off x="642924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9"/>
          <p:cNvSpPr/>
          <p:nvPr/>
        </p:nvSpPr>
        <p:spPr>
          <a:xfrm>
            <a:off x="642924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61"/>
          <p:cNvSpPr/>
          <p:nvPr/>
        </p:nvSpPr>
        <p:spPr>
          <a:xfrm>
            <a:off x="642924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086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74293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только букву И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7170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85960" y="228240"/>
            <a:ext cx="72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643040" y="1928880"/>
            <a:ext cx="7213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827360" y="1714680"/>
            <a:ext cx="708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9:28:26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